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907200" cy="674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907560" cy="67438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907560" cy="67438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72200" y="6351480"/>
            <a:ext cx="42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9147C566-31DA-4663-8844-1BB6F2BBA0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953400" y="103320"/>
            <a:ext cx="2384280" cy="328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3268080" y="512280"/>
            <a:ext cx="3370680" cy="252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1319040" y="5158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body"/>
          </p:nvPr>
        </p:nvSpPr>
        <p:spPr>
          <a:xfrm>
            <a:off x="1342800" y="3214800"/>
            <a:ext cx="72752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1319040" y="5158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body"/>
          </p:nvPr>
        </p:nvSpPr>
        <p:spPr>
          <a:xfrm>
            <a:off x="1342800" y="3214800"/>
            <a:ext cx="72752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1319040" y="5158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1342800" y="3214800"/>
            <a:ext cx="72752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1319040" y="5158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body"/>
          </p:nvPr>
        </p:nvSpPr>
        <p:spPr>
          <a:xfrm>
            <a:off x="1342800" y="3214800"/>
            <a:ext cx="72752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1319040" y="5158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body"/>
          </p:nvPr>
        </p:nvSpPr>
        <p:spPr>
          <a:xfrm>
            <a:off x="1342800" y="3214800"/>
            <a:ext cx="72752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319040" y="5158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body"/>
          </p:nvPr>
        </p:nvSpPr>
        <p:spPr>
          <a:xfrm>
            <a:off x="1342800" y="3214800"/>
            <a:ext cx="72752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55308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0B67D0-133B-44D0-A4A3-76AF7D17FAD9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1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rmaatik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loeng 11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TTÜ/IT Kolledzh 2005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T.Tammet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14400" y="301320"/>
            <a:ext cx="7769160" cy="306360"/>
            <a:chOff x="914400" y="301320"/>
            <a:chExt cx="7769160" cy="306360"/>
          </a:xfrm>
        </p:grpSpPr>
        <p:sp>
          <p:nvSpPr>
            <p:cNvPr id="89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682120" y="30132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eebilehtede (failide) serv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9763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ebilehed on lihtsalt failid, mille ette server paneb http-päi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ebileht (fail) võetakse reeglina ka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emasoleva failina arvuti ketta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na, mille teeb iga kord uuesti mõni programm (cgi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 võib olla külge-ehitatud veebiserverile (php, mod-perl jn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või olla eraldi programm, mille server käivitab (klassikalised cgi-programmid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me tiny serverit näite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836640" y="377640"/>
            <a:ext cx="7769160" cy="306360"/>
            <a:chOff x="836640" y="377640"/>
            <a:chExt cx="7769160" cy="306360"/>
          </a:xfrm>
        </p:grpSpPr>
        <p:sp>
          <p:nvSpPr>
            <p:cNvPr id="134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jandi keskpaig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139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828800" y="3429000"/>
            <a:ext cx="299880" cy="304920"/>
            <a:chOff x="1828800" y="3429000"/>
            <a:chExt cx="299880" cy="304920"/>
          </a:xfrm>
        </p:grpSpPr>
        <p:sp>
          <p:nvSpPr>
            <p:cNvPr id="142" name=""/>
            <p:cNvSpPr/>
            <p:nvPr/>
          </p:nvSpPr>
          <p:spPr>
            <a:xfrm>
              <a:off x="1828800" y="3429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28800" y="3429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54160" y="3429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146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150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154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158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600200" y="5257800"/>
            <a:ext cx="299880" cy="304920"/>
            <a:chOff x="1600200" y="5257800"/>
            <a:chExt cx="299880" cy="304920"/>
          </a:xfrm>
        </p:grpSpPr>
        <p:sp>
          <p:nvSpPr>
            <p:cNvPr id="162" name=""/>
            <p:cNvSpPr/>
            <p:nvPr/>
          </p:nvSpPr>
          <p:spPr>
            <a:xfrm>
              <a:off x="1600200" y="52578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00200" y="52578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25560" y="52578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166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170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174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178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182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V="1">
            <a:off x="2133720" y="3044880"/>
            <a:ext cx="122076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676520" y="3730320"/>
            <a:ext cx="22860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905120" y="4873320"/>
            <a:ext cx="1218960" cy="53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172200" y="1521000"/>
            <a:ext cx="1143000" cy="2347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86600" y="1523880"/>
            <a:ext cx="1862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ga arvu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 praegus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uhande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or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õims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88200" y="4699080"/>
            <a:ext cx="1212480" cy="1372680"/>
          </a:xfrm>
          <a:custGeom>
            <a:avLst/>
            <a:gdLst/>
            <a:ahLst/>
            <a:rect l="l" t="t" r="r" b="b"/>
            <a:pathLst>
              <a:path w="21600" h="24453">
                <a:moveTo>
                  <a:pt x="20" y="0"/>
                </a:moveTo>
                <a:arcTo wR="20" hR="20" stAng="16200000" swAng="-5400000"/>
                <a:lnTo>
                  <a:pt x="0" y="24433"/>
                </a:lnTo>
                <a:arcTo wR="20" hR="20" stAng="10800000" swAng="-5400000"/>
                <a:lnTo>
                  <a:pt x="21580" y="24453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õrgus 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aegus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uhande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ordi rohk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ot 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enuse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-43704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1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81080" y="3352680"/>
            <a:ext cx="457200" cy="533520"/>
            <a:chOff x="1981080" y="3352680"/>
            <a:chExt cx="457200" cy="533520"/>
          </a:xfrm>
        </p:grpSpPr>
        <p:sp>
          <p:nvSpPr>
            <p:cNvPr id="216" name=""/>
            <p:cNvSpPr/>
            <p:nvPr/>
          </p:nvSpPr>
          <p:spPr>
            <a:xfrm>
              <a:off x="1981080" y="3352680"/>
              <a:ext cx="457200" cy="5335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590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84400" y="3735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572000" y="1371600"/>
            <a:ext cx="457200" cy="533520"/>
            <a:chOff x="4572000" y="1371600"/>
            <a:chExt cx="457200" cy="533520"/>
          </a:xfrm>
        </p:grpSpPr>
        <p:sp>
          <p:nvSpPr>
            <p:cNvPr id="221" name=""/>
            <p:cNvSpPr/>
            <p:nvPr/>
          </p:nvSpPr>
          <p:spPr>
            <a:xfrm>
              <a:off x="4572000" y="1371600"/>
              <a:ext cx="457200" cy="5335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023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499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75320" y="17542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 flipV="1">
            <a:off x="2438280" y="1901520"/>
            <a:ext cx="2057400" cy="1530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590920" y="2739960"/>
            <a:ext cx="220968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3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981080" y="3352680"/>
            <a:ext cx="457200" cy="533520"/>
            <a:chOff x="1981080" y="3352680"/>
            <a:chExt cx="457200" cy="533520"/>
          </a:xfrm>
        </p:grpSpPr>
        <p:sp>
          <p:nvSpPr>
            <p:cNvPr id="240" name=""/>
            <p:cNvSpPr/>
            <p:nvPr/>
          </p:nvSpPr>
          <p:spPr>
            <a:xfrm>
              <a:off x="1981080" y="3352680"/>
              <a:ext cx="457200" cy="5335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590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84400" y="3735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572000" y="1371600"/>
            <a:ext cx="457200" cy="533520"/>
            <a:chOff x="4572000" y="1371600"/>
            <a:chExt cx="457200" cy="533520"/>
          </a:xfrm>
        </p:grpSpPr>
        <p:sp>
          <p:nvSpPr>
            <p:cNvPr id="245" name=""/>
            <p:cNvSpPr/>
            <p:nvPr/>
          </p:nvSpPr>
          <p:spPr>
            <a:xfrm>
              <a:off x="4572000" y="1371600"/>
              <a:ext cx="457200" cy="5335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023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499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75320" y="17542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76920" y="2362320"/>
            <a:ext cx="457200" cy="533160"/>
            <a:chOff x="4876920" y="2362320"/>
            <a:chExt cx="457200" cy="533160"/>
          </a:xfrm>
        </p:grpSpPr>
        <p:sp>
          <p:nvSpPr>
            <p:cNvPr id="250" name=""/>
            <p:cNvSpPr/>
            <p:nvPr/>
          </p:nvSpPr>
          <p:spPr>
            <a:xfrm>
              <a:off x="4876920" y="2362320"/>
              <a:ext cx="457200" cy="5331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0688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5448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79880" y="2744640"/>
              <a:ext cx="252360" cy="511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495680" y="5486400"/>
            <a:ext cx="457200" cy="533520"/>
            <a:chOff x="4495680" y="5486400"/>
            <a:chExt cx="457200" cy="533520"/>
          </a:xfrm>
        </p:grpSpPr>
        <p:sp>
          <p:nvSpPr>
            <p:cNvPr id="255" name=""/>
            <p:cNvSpPr/>
            <p:nvPr/>
          </p:nvSpPr>
          <p:spPr>
            <a:xfrm>
              <a:off x="4495680" y="5486400"/>
              <a:ext cx="457200" cy="5335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2600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7360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99000" y="58690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105520" y="3429000"/>
            <a:ext cx="457200" cy="533520"/>
            <a:chOff x="5105520" y="3429000"/>
            <a:chExt cx="457200" cy="533520"/>
          </a:xfrm>
        </p:grpSpPr>
        <p:sp>
          <p:nvSpPr>
            <p:cNvPr id="260" name=""/>
            <p:cNvSpPr/>
            <p:nvPr/>
          </p:nvSpPr>
          <p:spPr>
            <a:xfrm>
              <a:off x="5105520" y="3429000"/>
              <a:ext cx="457200" cy="5335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35480" y="358632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080" y="358632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08480" y="3811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876920" y="4648320"/>
            <a:ext cx="457200" cy="533160"/>
            <a:chOff x="4876920" y="4648320"/>
            <a:chExt cx="457200" cy="533160"/>
          </a:xfrm>
        </p:grpSpPr>
        <p:sp>
          <p:nvSpPr>
            <p:cNvPr id="265" name=""/>
            <p:cNvSpPr/>
            <p:nvPr/>
          </p:nvSpPr>
          <p:spPr>
            <a:xfrm>
              <a:off x="4876920" y="4648320"/>
              <a:ext cx="457200" cy="5331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0688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5448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979880" y="5030640"/>
              <a:ext cx="252360" cy="511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 flipV="1">
            <a:off x="2438280" y="1901520"/>
            <a:ext cx="2057400" cy="1530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590920" y="2739960"/>
            <a:ext cx="220968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95160" y="2084400"/>
            <a:ext cx="9435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86600" y="1143000"/>
            <a:ext cx="838080" cy="495288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129520" y="1236600"/>
            <a:ext cx="351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-4370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8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981080" y="3352680"/>
            <a:ext cx="457200" cy="533520"/>
            <a:chOff x="1981080" y="3352680"/>
            <a:chExt cx="457200" cy="533520"/>
          </a:xfrm>
        </p:grpSpPr>
        <p:sp>
          <p:nvSpPr>
            <p:cNvPr id="283" name=""/>
            <p:cNvSpPr/>
            <p:nvPr/>
          </p:nvSpPr>
          <p:spPr>
            <a:xfrm>
              <a:off x="1981080" y="3352680"/>
              <a:ext cx="457200" cy="5335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590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4400" y="3735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2438280" y="1901520"/>
            <a:ext cx="2057400" cy="1530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90920" y="2739960"/>
            <a:ext cx="220968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22080" y="2084400"/>
            <a:ext cx="9039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181480" y="33526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876920" y="44956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4495680" y="53341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086600" y="1143000"/>
            <a:ext cx="838080" cy="495288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16920" y="115092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938160" y="576360"/>
            <a:ext cx="7772400" cy="320400"/>
            <a:chOff x="938160" y="576360"/>
            <a:chExt cx="7772400" cy="320400"/>
          </a:xfrm>
        </p:grpSpPr>
        <p:sp>
          <p:nvSpPr>
            <p:cNvPr id="303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8709120" y="576360"/>
              <a:ext cx="144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590920" y="518148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579132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791320" y="5486400"/>
            <a:ext cx="452160" cy="528480"/>
            <a:chOff x="5791320" y="5486400"/>
            <a:chExt cx="452160" cy="528480"/>
          </a:xfrm>
        </p:grpSpPr>
        <p:sp>
          <p:nvSpPr>
            <p:cNvPr id="308" name=""/>
            <p:cNvSpPr/>
            <p:nvPr/>
          </p:nvSpPr>
          <p:spPr>
            <a:xfrm>
              <a:off x="57913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2128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6744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4280" y="58644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938160" y="576360"/>
            <a:ext cx="7772400" cy="320400"/>
            <a:chOff x="938160" y="576360"/>
            <a:chExt cx="7772400" cy="320400"/>
          </a:xfrm>
        </p:grpSpPr>
        <p:sp>
          <p:nvSpPr>
            <p:cNvPr id="315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8709120" y="576360"/>
              <a:ext cx="144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322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75008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9624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23080" y="58644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329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83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29560" y="351000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5640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V="1">
            <a:off x="4267080" y="4713120"/>
            <a:ext cx="243864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337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0728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180280" y="47973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267080" y="4028760"/>
            <a:ext cx="381240" cy="399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743200" y="5322960"/>
            <a:ext cx="53352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938160" y="576360"/>
            <a:ext cx="7772400" cy="320400"/>
            <a:chOff x="938160" y="576360"/>
            <a:chExt cx="7772400" cy="320400"/>
          </a:xfrm>
        </p:grpSpPr>
        <p:sp>
          <p:nvSpPr>
            <p:cNvPr id="349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8709120" y="576360"/>
              <a:ext cx="144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356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486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8962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21640" y="58644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363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819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295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5496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V="1">
            <a:off x="4267080" y="4713120"/>
            <a:ext cx="243864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371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058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178840" y="4797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267080" y="4028760"/>
            <a:ext cx="381240" cy="399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743200" y="5322960"/>
            <a:ext cx="53352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38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V="1">
            <a:off x="2438280" y="1901520"/>
            <a:ext cx="2057400" cy="1530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590920" y="2739960"/>
            <a:ext cx="220968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520" y="208440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XML + Semantic 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5181480" y="33526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4876920" y="44956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5"/>
          <a:stretch/>
        </p:blipFill>
        <p:spPr>
          <a:xfrm>
            <a:off x="4495680" y="53341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086600" y="1143000"/>
            <a:ext cx="838080" cy="495288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140680" y="1260360"/>
            <a:ext cx="351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40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 flipV="1">
            <a:off x="1905120" y="2739960"/>
            <a:ext cx="228600" cy="92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1219320"/>
            <a:ext cx="152424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2438280" y="1139760"/>
            <a:ext cx="251460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2209680"/>
            <a:ext cx="3352680" cy="1067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7315200" y="21337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1981080" y="19051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5486400" y="47242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6095880" y="32767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600200" y="3733920"/>
            <a:ext cx="457200" cy="533160"/>
            <a:chOff x="1600200" y="3733920"/>
            <a:chExt cx="457200" cy="533160"/>
          </a:xfrm>
        </p:grpSpPr>
        <p:sp>
          <p:nvSpPr>
            <p:cNvPr id="416" name=""/>
            <p:cNvSpPr/>
            <p:nvPr/>
          </p:nvSpPr>
          <p:spPr>
            <a:xfrm>
              <a:off x="1600200" y="3733920"/>
              <a:ext cx="457200" cy="5331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305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781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03520" y="4116240"/>
              <a:ext cx="252360" cy="511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 flipV="1">
            <a:off x="2057400" y="3730320"/>
            <a:ext cx="3886200" cy="82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6549840" y="2895480"/>
            <a:ext cx="92052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7464600" y="3048120"/>
            <a:ext cx="15840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6016680" y="4419720"/>
            <a:ext cx="122544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4120" y="1676520"/>
            <a:ext cx="8380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ebist on faile (veebilehti) väga lihtne oma arvutisse saa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raus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ja mida seal sees leida võib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S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vascript programmeerimiskeel, pluss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ML DOM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ynchronous queri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keele parse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T teisendus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eebiserv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faile välja annab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egu arenev paradigma: arvutid suhtlevad ja vahetavad infot võrgus i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guteenus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 minevik, olevik, tulevi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mantic we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9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938160" y="576360"/>
            <a:ext cx="7772400" cy="320400"/>
            <a:chOff x="938160" y="576360"/>
            <a:chExt cx="7772400" cy="320400"/>
          </a:xfrm>
        </p:grpSpPr>
        <p:sp>
          <p:nvSpPr>
            <p:cNvPr id="428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8709120" y="576360"/>
              <a:ext cx="144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705720" y="2438280"/>
            <a:ext cx="1752480" cy="1295640"/>
            <a:chOff x="6705720" y="2438280"/>
            <a:chExt cx="1752480" cy="1295640"/>
          </a:xfrm>
        </p:grpSpPr>
        <p:sp>
          <p:nvSpPr>
            <p:cNvPr id="431" name=""/>
            <p:cNvSpPr/>
            <p:nvPr/>
          </p:nvSpPr>
          <p:spPr>
            <a:xfrm>
              <a:off x="6848640" y="27129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99520" y="28656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81920" y="25099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40520" y="3273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837560" y="2830320"/>
              <a:ext cx="120600" cy="14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34200" y="29415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354800" y="326340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05720" y="24382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33520" y="3124080"/>
            <a:ext cx="1752480" cy="1295640"/>
            <a:chOff x="533520" y="3124080"/>
            <a:chExt cx="1752480" cy="1295640"/>
          </a:xfrm>
        </p:grpSpPr>
        <p:sp>
          <p:nvSpPr>
            <p:cNvPr id="440" name=""/>
            <p:cNvSpPr/>
            <p:nvPr/>
          </p:nvSpPr>
          <p:spPr>
            <a:xfrm>
              <a:off x="676440" y="33987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27320" y="35514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09720" y="31957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68320" y="39592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1665360" y="3516120"/>
              <a:ext cx="120600" cy="14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62000" y="36273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1182600" y="394920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3520" y="31240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828800" y="5105520"/>
            <a:ext cx="1752480" cy="1295280"/>
            <a:chOff x="1828800" y="5105520"/>
            <a:chExt cx="1752480" cy="1295280"/>
          </a:xfrm>
        </p:grpSpPr>
        <p:sp>
          <p:nvSpPr>
            <p:cNvPr id="449" name=""/>
            <p:cNvSpPr/>
            <p:nvPr/>
          </p:nvSpPr>
          <p:spPr>
            <a:xfrm>
              <a:off x="1971720" y="53802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22600" y="55324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05000" y="51768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62160" y="59403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2960640" y="549756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55840" y="56088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2478240" y="5930640"/>
              <a:ext cx="16812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288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733920" y="3505320"/>
            <a:ext cx="1752480" cy="1295280"/>
            <a:chOff x="3733920" y="3505320"/>
            <a:chExt cx="1752480" cy="1295280"/>
          </a:xfrm>
        </p:grpSpPr>
        <p:sp>
          <p:nvSpPr>
            <p:cNvPr id="458" name=""/>
            <p:cNvSpPr/>
            <p:nvPr/>
          </p:nvSpPr>
          <p:spPr>
            <a:xfrm>
              <a:off x="3876840" y="37800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27720" y="39322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10120" y="35766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68720" y="43401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865760" y="389736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62400" y="40086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83000" y="433044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33920" y="3505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952880" y="5257800"/>
            <a:ext cx="1752840" cy="1295280"/>
            <a:chOff x="4952880" y="5257800"/>
            <a:chExt cx="1752840" cy="1295280"/>
          </a:xfrm>
        </p:grpSpPr>
        <p:sp>
          <p:nvSpPr>
            <p:cNvPr id="467" name=""/>
            <p:cNvSpPr/>
            <p:nvPr/>
          </p:nvSpPr>
          <p:spPr>
            <a:xfrm>
              <a:off x="5095800" y="5532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46680" y="5683320"/>
              <a:ext cx="289080" cy="4096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29440" y="532764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89480" y="60930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6084720" y="5649840"/>
              <a:ext cx="1209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481720" y="576108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5602320" y="6081840"/>
              <a:ext cx="168120" cy="196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5257800"/>
              <a:ext cx="175284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8151840" y="4800600"/>
            <a:ext cx="453960" cy="528480"/>
            <a:chOff x="8151840" y="4800600"/>
            <a:chExt cx="453960" cy="528480"/>
          </a:xfrm>
        </p:grpSpPr>
        <p:sp>
          <p:nvSpPr>
            <p:cNvPr id="477" name=""/>
            <p:cNvSpPr/>
            <p:nvPr/>
          </p:nvSpPr>
          <p:spPr>
            <a:xfrm>
              <a:off x="8151840" y="480060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83600" y="4957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29760" y="49579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483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0668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79680" y="29685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488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79440" y="6019920"/>
            <a:ext cx="453960" cy="528480"/>
            <a:chOff x="379440" y="6019920"/>
            <a:chExt cx="453960" cy="528480"/>
          </a:xfrm>
        </p:grpSpPr>
        <p:sp>
          <p:nvSpPr>
            <p:cNvPr id="493" name=""/>
            <p:cNvSpPr/>
            <p:nvPr/>
          </p:nvSpPr>
          <p:spPr>
            <a:xfrm>
              <a:off x="379440" y="6019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 flipV="1">
            <a:off x="1371600" y="5932440"/>
            <a:ext cx="380880" cy="171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486400" y="4102200"/>
            <a:ext cx="2057400" cy="95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562720" y="3114360"/>
            <a:ext cx="990360" cy="4762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1589040" y="4408560"/>
            <a:ext cx="32400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571560" y="5715000"/>
            <a:ext cx="12380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2502000" y="3724200"/>
            <a:ext cx="100944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2733840" y="4343400"/>
            <a:ext cx="93312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428560" y="2971800"/>
            <a:ext cx="78084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938160" y="576360"/>
            <a:ext cx="7770960" cy="320400"/>
            <a:chOff x="938160" y="576360"/>
            <a:chExt cx="7770960" cy="320400"/>
          </a:xfrm>
        </p:grpSpPr>
        <p:sp>
          <p:nvSpPr>
            <p:cNvPr id="510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8707320" y="576360"/>
              <a:ext cx="180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8153280" y="4800600"/>
            <a:ext cx="454320" cy="528480"/>
            <a:chOff x="8153280" y="4800600"/>
            <a:chExt cx="454320" cy="528480"/>
          </a:xfrm>
        </p:grpSpPr>
        <p:sp>
          <p:nvSpPr>
            <p:cNvPr id="514" name=""/>
            <p:cNvSpPr/>
            <p:nvPr/>
          </p:nvSpPr>
          <p:spPr>
            <a:xfrm>
              <a:off x="8153280" y="480060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519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524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80880" y="6019920"/>
            <a:ext cx="454320" cy="528480"/>
            <a:chOff x="380880" y="6019920"/>
            <a:chExt cx="454320" cy="528480"/>
          </a:xfrm>
        </p:grpSpPr>
        <p:sp>
          <p:nvSpPr>
            <p:cNvPr id="529" name=""/>
            <p:cNvSpPr/>
            <p:nvPr/>
          </p:nvSpPr>
          <p:spPr>
            <a:xfrm>
              <a:off x="380880" y="601992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 flipV="1">
            <a:off x="1371600" y="5932440"/>
            <a:ext cx="380880" cy="171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486400" y="4102200"/>
            <a:ext cx="2057400" cy="95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486400" y="3191040"/>
            <a:ext cx="990720" cy="475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1589040" y="4408560"/>
            <a:ext cx="32400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571560" y="5715000"/>
            <a:ext cx="12380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2502000" y="3724200"/>
            <a:ext cx="100944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733840" y="4343400"/>
            <a:ext cx="93312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428560" y="2971800"/>
            <a:ext cx="78084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33520" y="2971800"/>
            <a:ext cx="1753920" cy="1295280"/>
            <a:chOff x="533520" y="2971800"/>
            <a:chExt cx="1753920" cy="1295280"/>
          </a:xfrm>
        </p:grpSpPr>
        <p:sp>
          <p:nvSpPr>
            <p:cNvPr id="542" name=""/>
            <p:cNvSpPr/>
            <p:nvPr/>
          </p:nvSpPr>
          <p:spPr>
            <a:xfrm>
              <a:off x="53352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841320" y="2971800"/>
              <a:ext cx="1216080" cy="1143000"/>
              <a:chOff x="841320" y="2971800"/>
              <a:chExt cx="1216080" cy="1143000"/>
            </a:xfrm>
          </p:grpSpPr>
          <p:sp>
            <p:nvSpPr>
              <p:cNvPr id="544" name=""/>
              <p:cNvSpPr/>
              <p:nvPr/>
            </p:nvSpPr>
            <p:spPr>
              <a:xfrm flipV="1">
                <a:off x="1627200" y="3292200"/>
                <a:ext cx="120600" cy="145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025640" y="34034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1147680" y="3648240"/>
                <a:ext cx="168480" cy="196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7" name=""/>
              <p:cNvGrpSpPr/>
              <p:nvPr/>
            </p:nvGrpSpPr>
            <p:grpSpPr>
              <a:xfrm>
                <a:off x="1833480" y="2971800"/>
                <a:ext cx="223920" cy="457200"/>
                <a:chOff x="1833480" y="2971800"/>
                <a:chExt cx="223920" cy="45720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1833480" y="2971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897200" y="3106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969920" y="3106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884240" y="3298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1376280" y="3200400"/>
                <a:ext cx="223920" cy="457200"/>
                <a:chOff x="1376280" y="3200400"/>
                <a:chExt cx="223920" cy="45720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1376280" y="32004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440000" y="33354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512720" y="33354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427040" y="35272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841320" y="3044880"/>
                <a:ext cx="223920" cy="457200"/>
                <a:chOff x="841320" y="3044880"/>
                <a:chExt cx="223920" cy="45720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841320" y="30448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905040" y="31798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976320" y="31798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892080" y="33703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919080" y="3657600"/>
                <a:ext cx="223920" cy="457200"/>
                <a:chOff x="919080" y="3657600"/>
                <a:chExt cx="223920" cy="45720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919080" y="3657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982800" y="3792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055520" y="37926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969840" y="39844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7" name=""/>
            <p:cNvSpPr/>
            <p:nvPr/>
          </p:nvSpPr>
          <p:spPr>
            <a:xfrm>
              <a:off x="53496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1676520" y="5029200"/>
            <a:ext cx="1752480" cy="1295280"/>
            <a:chOff x="1676520" y="5029200"/>
            <a:chExt cx="1752480" cy="1295280"/>
          </a:xfrm>
        </p:grpSpPr>
        <p:sp>
          <p:nvSpPr>
            <p:cNvPr id="569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1984320" y="5029200"/>
              <a:ext cx="1216080" cy="1143000"/>
              <a:chOff x="1984320" y="5029200"/>
              <a:chExt cx="1216080" cy="1143000"/>
            </a:xfrm>
          </p:grpSpPr>
          <p:sp>
            <p:nvSpPr>
              <p:cNvPr id="571" name=""/>
              <p:cNvSpPr/>
              <p:nvPr/>
            </p:nvSpPr>
            <p:spPr>
              <a:xfrm flipV="1">
                <a:off x="2770200" y="5349600"/>
                <a:ext cx="120600" cy="145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168640" y="54608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2290680" y="5705640"/>
                <a:ext cx="168480" cy="196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4" name=""/>
              <p:cNvGrpSpPr/>
              <p:nvPr/>
            </p:nvGrpSpPr>
            <p:grpSpPr>
              <a:xfrm>
                <a:off x="2976480" y="5029200"/>
                <a:ext cx="223920" cy="457200"/>
                <a:chOff x="2976480" y="5029200"/>
                <a:chExt cx="223920" cy="45720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2976480" y="5029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040200" y="5164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112920" y="51642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027240" y="53560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2519280" y="5257800"/>
                <a:ext cx="223920" cy="457200"/>
                <a:chOff x="2519280" y="5257800"/>
                <a:chExt cx="223920" cy="45720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519280" y="5257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583000" y="5392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655720" y="5392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70040" y="5584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1984320" y="5102280"/>
                <a:ext cx="223920" cy="457200"/>
                <a:chOff x="1984320" y="5102280"/>
                <a:chExt cx="223920" cy="45720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1984320" y="51022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048040" y="52372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119320" y="52372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033640" y="54277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2062080" y="5715000"/>
                <a:ext cx="223920" cy="457200"/>
                <a:chOff x="2062080" y="5715000"/>
                <a:chExt cx="223920" cy="45720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2062080" y="57150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125800" y="58500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198520" y="58500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112840" y="60418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4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596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598" name=""/>
              <p:cNvSpPr/>
              <p:nvPr/>
            </p:nvSpPr>
            <p:spPr>
              <a:xfrm flipV="1">
                <a:off x="4751280" y="4054320"/>
                <a:ext cx="12060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4272120" y="4408200"/>
                <a:ext cx="16812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1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1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029200" y="5105520"/>
            <a:ext cx="1752480" cy="1295280"/>
            <a:chOff x="5029200" y="5105520"/>
            <a:chExt cx="1752480" cy="1295280"/>
          </a:xfrm>
        </p:grpSpPr>
        <p:sp>
          <p:nvSpPr>
            <p:cNvPr id="623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335560" y="5105520"/>
              <a:ext cx="1217520" cy="1143000"/>
              <a:chOff x="5335560" y="5105520"/>
              <a:chExt cx="1217520" cy="1143000"/>
            </a:xfrm>
          </p:grpSpPr>
          <p:sp>
            <p:nvSpPr>
              <p:cNvPr id="625" name=""/>
              <p:cNvSpPr/>
              <p:nvPr/>
            </p:nvSpPr>
            <p:spPr>
              <a:xfrm flipV="1">
                <a:off x="6122880" y="5425920"/>
                <a:ext cx="12060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521320" y="55371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5643720" y="5779800"/>
                <a:ext cx="16812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8" name=""/>
              <p:cNvGrpSpPr/>
              <p:nvPr/>
            </p:nvGrpSpPr>
            <p:grpSpPr>
              <a:xfrm>
                <a:off x="6329520" y="5105520"/>
                <a:ext cx="223560" cy="457200"/>
                <a:chOff x="6329520" y="5105520"/>
                <a:chExt cx="223560" cy="45720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329520" y="5105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392880" y="5238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465960" y="5238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6380280" y="5432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5872320" y="5334120"/>
                <a:ext cx="223560" cy="457200"/>
                <a:chOff x="5872320" y="5334120"/>
                <a:chExt cx="223560" cy="4572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5872320" y="53341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935680" y="54673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008760" y="54673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923080" y="5661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5335560" y="5176800"/>
                <a:ext cx="223920" cy="457200"/>
                <a:chOff x="5335560" y="5176800"/>
                <a:chExt cx="223920" cy="45720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5335560" y="5176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400720" y="5311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473800" y="53118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386320" y="55040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5415120" y="5791320"/>
                <a:ext cx="223560" cy="457200"/>
                <a:chOff x="5415120" y="5791320"/>
                <a:chExt cx="223560" cy="45720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5415120" y="57913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478480" y="59245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551560" y="59245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465880" y="6118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8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650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652" name=""/>
              <p:cNvSpPr/>
              <p:nvPr/>
            </p:nvSpPr>
            <p:spPr>
              <a:xfrm flipV="1">
                <a:off x="4751280" y="4054320"/>
                <a:ext cx="12060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4272120" y="4408200"/>
                <a:ext cx="16812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5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477120" y="2362320"/>
            <a:ext cx="1752480" cy="1295280"/>
            <a:chOff x="6477120" y="2362320"/>
            <a:chExt cx="1752480" cy="1295280"/>
          </a:xfrm>
        </p:grpSpPr>
        <p:sp>
          <p:nvSpPr>
            <p:cNvPr id="677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6784920" y="2362320"/>
              <a:ext cx="1216080" cy="1143000"/>
              <a:chOff x="6784920" y="2362320"/>
              <a:chExt cx="1216080" cy="1143000"/>
            </a:xfrm>
          </p:grpSpPr>
          <p:sp>
            <p:nvSpPr>
              <p:cNvPr id="679" name=""/>
              <p:cNvSpPr/>
              <p:nvPr/>
            </p:nvSpPr>
            <p:spPr>
              <a:xfrm flipV="1">
                <a:off x="7570800" y="2682720"/>
                <a:ext cx="12060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969240" y="27939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7091280" y="3036600"/>
                <a:ext cx="16848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2" name=""/>
              <p:cNvGrpSpPr/>
              <p:nvPr/>
            </p:nvGrpSpPr>
            <p:grpSpPr>
              <a:xfrm>
                <a:off x="7777080" y="2362320"/>
                <a:ext cx="223920" cy="457200"/>
                <a:chOff x="7777080" y="2362320"/>
                <a:chExt cx="223920" cy="45720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7777080" y="23623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7840800" y="24955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7913520" y="24955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7827840" y="2689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7319880" y="2590920"/>
                <a:ext cx="223920" cy="457200"/>
                <a:chOff x="7319880" y="2590920"/>
                <a:chExt cx="223920" cy="4572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7319880" y="25909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383600" y="27241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456320" y="27241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7370640" y="2917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6784920" y="2433600"/>
                <a:ext cx="223920" cy="457200"/>
                <a:chOff x="6784920" y="2433600"/>
                <a:chExt cx="223920" cy="4572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6784920" y="2433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848640" y="2568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919920" y="256860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834240" y="27608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862680" y="3048120"/>
                <a:ext cx="223920" cy="457200"/>
                <a:chOff x="6862680" y="3048120"/>
                <a:chExt cx="223920" cy="4572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862680" y="30481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926400" y="31813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999120" y="31813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913440" y="3375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2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936720" y="572760"/>
            <a:ext cx="7772400" cy="320760"/>
            <a:chOff x="936720" y="572760"/>
            <a:chExt cx="7772400" cy="320760"/>
          </a:xfrm>
        </p:grpSpPr>
        <p:sp>
          <p:nvSpPr>
            <p:cNvPr id="706" name=""/>
            <p:cNvSpPr/>
            <p:nvPr/>
          </p:nvSpPr>
          <p:spPr>
            <a:xfrm>
              <a:off x="936720" y="887400"/>
              <a:ext cx="777060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8707320" y="572760"/>
              <a:ext cx="1800" cy="3207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8153280" y="4799160"/>
            <a:ext cx="454320" cy="529920"/>
            <a:chOff x="8153280" y="4799160"/>
            <a:chExt cx="454320" cy="529920"/>
          </a:xfrm>
        </p:grpSpPr>
        <p:sp>
          <p:nvSpPr>
            <p:cNvPr id="710" name=""/>
            <p:cNvSpPr/>
            <p:nvPr/>
          </p:nvSpPr>
          <p:spPr>
            <a:xfrm>
              <a:off x="8153280" y="4799160"/>
              <a:ext cx="454320" cy="52992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715" name=""/>
          <p:cNvGrpSpPr/>
          <p:nvPr/>
        </p:nvGrpSpPr>
        <p:grpSpPr>
          <a:xfrm>
            <a:off x="3276720" y="2590920"/>
            <a:ext cx="453960" cy="530280"/>
            <a:chOff x="3276720" y="2590920"/>
            <a:chExt cx="453960" cy="530280"/>
          </a:xfrm>
        </p:grpSpPr>
        <p:sp>
          <p:nvSpPr>
            <p:cNvPr id="716" name=""/>
            <p:cNvSpPr/>
            <p:nvPr/>
          </p:nvSpPr>
          <p:spPr>
            <a:xfrm>
              <a:off x="3276720" y="2590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8228160" y="3733920"/>
            <a:ext cx="453960" cy="530280"/>
            <a:chOff x="8228160" y="3733920"/>
            <a:chExt cx="453960" cy="530280"/>
          </a:xfrm>
        </p:grpSpPr>
        <p:sp>
          <p:nvSpPr>
            <p:cNvPr id="721" name=""/>
            <p:cNvSpPr/>
            <p:nvPr/>
          </p:nvSpPr>
          <p:spPr>
            <a:xfrm>
              <a:off x="8228160" y="3733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3581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3311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80880" y="6019920"/>
            <a:ext cx="454320" cy="530280"/>
            <a:chOff x="380880" y="6019920"/>
            <a:chExt cx="454320" cy="530280"/>
          </a:xfrm>
        </p:grpSpPr>
        <p:sp>
          <p:nvSpPr>
            <p:cNvPr id="726" name=""/>
            <p:cNvSpPr/>
            <p:nvPr/>
          </p:nvSpPr>
          <p:spPr>
            <a:xfrm>
              <a:off x="380880" y="6019920"/>
              <a:ext cx="45432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V="1">
            <a:off x="1371600" y="5932440"/>
            <a:ext cx="380880" cy="171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5486400" y="4101840"/>
            <a:ext cx="2057400" cy="968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86400" y="3191040"/>
            <a:ext cx="990720" cy="475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1589040" y="4408560"/>
            <a:ext cx="32544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3571560" y="5715000"/>
            <a:ext cx="12380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2502000" y="3722760"/>
            <a:ext cx="100944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2733840" y="4341960"/>
            <a:ext cx="93312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2427120" y="2970360"/>
            <a:ext cx="78264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4878360" y="5257800"/>
            <a:ext cx="1752480" cy="1295280"/>
            <a:chOff x="4878360" y="5257800"/>
            <a:chExt cx="1752480" cy="1295280"/>
          </a:xfrm>
        </p:grpSpPr>
        <p:sp>
          <p:nvSpPr>
            <p:cNvPr id="741" name=""/>
            <p:cNvSpPr/>
            <p:nvPr/>
          </p:nvSpPr>
          <p:spPr>
            <a:xfrm>
              <a:off x="5106960" y="60451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045040" y="55389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78360" y="5257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5892840" y="562932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89480" y="57420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5413320" y="598608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6097680" y="5308560"/>
              <a:ext cx="225360" cy="457200"/>
              <a:chOff x="6097680" y="5308560"/>
              <a:chExt cx="225360" cy="457200"/>
            </a:xfrm>
          </p:grpSpPr>
          <p:sp>
            <p:nvSpPr>
              <p:cNvPr id="748" name=""/>
              <p:cNvSpPr/>
              <p:nvPr/>
            </p:nvSpPr>
            <p:spPr>
              <a:xfrm>
                <a:off x="609768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162840" y="54435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23556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14844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5640480" y="5537160"/>
              <a:ext cx="225360" cy="457200"/>
              <a:chOff x="5640480" y="5537160"/>
              <a:chExt cx="2253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5640480" y="55371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705640" y="56721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778360" y="56721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691240" y="58644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7" name=""/>
          <p:cNvGrpSpPr/>
          <p:nvPr/>
        </p:nvGrpSpPr>
        <p:grpSpPr>
          <a:xfrm>
            <a:off x="534960" y="2820960"/>
            <a:ext cx="1752480" cy="1295280"/>
            <a:chOff x="534960" y="2820960"/>
            <a:chExt cx="1752480" cy="1295280"/>
          </a:xfrm>
        </p:grpSpPr>
        <p:sp>
          <p:nvSpPr>
            <p:cNvPr id="758" name=""/>
            <p:cNvSpPr/>
            <p:nvPr/>
          </p:nvSpPr>
          <p:spPr>
            <a:xfrm>
              <a:off x="763560" y="36082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1640" y="31003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34960" y="28209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1549440" y="319248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946080" y="33037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1069920" y="354780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1754280" y="2871720"/>
              <a:ext cx="225360" cy="457200"/>
              <a:chOff x="1754280" y="2871720"/>
              <a:chExt cx="225360" cy="457200"/>
            </a:xfrm>
          </p:grpSpPr>
          <p:sp>
            <p:nvSpPr>
              <p:cNvPr id="765" name=""/>
              <p:cNvSpPr/>
              <p:nvPr/>
            </p:nvSpPr>
            <p:spPr>
              <a:xfrm>
                <a:off x="1754280" y="28717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819440" y="30067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892160" y="30067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805040" y="31989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1297080" y="3100320"/>
              <a:ext cx="225360" cy="457200"/>
              <a:chOff x="1297080" y="3100320"/>
              <a:chExt cx="225360" cy="457200"/>
            </a:xfrm>
          </p:grpSpPr>
          <p:sp>
            <p:nvSpPr>
              <p:cNvPr id="770" name=""/>
              <p:cNvSpPr/>
              <p:nvPr/>
            </p:nvSpPr>
            <p:spPr>
              <a:xfrm>
                <a:off x="1297080" y="31003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362240" y="32353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434960" y="32353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347840" y="34275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4" name=""/>
          <p:cNvGrpSpPr/>
          <p:nvPr/>
        </p:nvGrpSpPr>
        <p:grpSpPr>
          <a:xfrm>
            <a:off x="1828800" y="5029200"/>
            <a:ext cx="1752480" cy="1295280"/>
            <a:chOff x="1828800" y="5029200"/>
            <a:chExt cx="1752480" cy="1295280"/>
          </a:xfrm>
        </p:grpSpPr>
        <p:sp>
          <p:nvSpPr>
            <p:cNvPr id="775" name=""/>
            <p:cNvSpPr/>
            <p:nvPr/>
          </p:nvSpPr>
          <p:spPr>
            <a:xfrm>
              <a:off x="2057400" y="58165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996920" y="53103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2880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2843280" y="540072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241720" y="55134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363760" y="575748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3049560" y="5079960"/>
              <a:ext cx="225360" cy="457200"/>
              <a:chOff x="3049560" y="5079960"/>
              <a:chExt cx="225360" cy="457200"/>
            </a:xfrm>
          </p:grpSpPr>
          <p:sp>
            <p:nvSpPr>
              <p:cNvPr id="782" name=""/>
              <p:cNvSpPr/>
              <p:nvPr/>
            </p:nvSpPr>
            <p:spPr>
              <a:xfrm>
                <a:off x="3049560" y="5079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11292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18600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00320" y="5407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2592360" y="5308560"/>
              <a:ext cx="225360" cy="457200"/>
              <a:chOff x="2592360" y="5308560"/>
              <a:chExt cx="225360" cy="457200"/>
            </a:xfrm>
          </p:grpSpPr>
          <p:sp>
            <p:nvSpPr>
              <p:cNvPr id="787" name=""/>
              <p:cNvSpPr/>
              <p:nvPr/>
            </p:nvSpPr>
            <p:spPr>
              <a:xfrm>
                <a:off x="259236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65572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2880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64312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1" name=""/>
          <p:cNvGrpSpPr/>
          <p:nvPr/>
        </p:nvGrpSpPr>
        <p:grpSpPr>
          <a:xfrm>
            <a:off x="3657600" y="3506760"/>
            <a:ext cx="1752480" cy="1295280"/>
            <a:chOff x="3657600" y="3506760"/>
            <a:chExt cx="1752480" cy="1295280"/>
          </a:xfrm>
        </p:grpSpPr>
        <p:sp>
          <p:nvSpPr>
            <p:cNvPr id="792" name=""/>
            <p:cNvSpPr/>
            <p:nvPr/>
          </p:nvSpPr>
          <p:spPr>
            <a:xfrm>
              <a:off x="3886200" y="42940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825720" y="37861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57600" y="35067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672080" y="387828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70520" y="39895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4192560" y="423360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4878360" y="3557520"/>
              <a:ext cx="225360" cy="457200"/>
              <a:chOff x="4878360" y="3557520"/>
              <a:chExt cx="225360" cy="457200"/>
            </a:xfrm>
          </p:grpSpPr>
          <p:sp>
            <p:nvSpPr>
              <p:cNvPr id="799" name=""/>
              <p:cNvSpPr/>
              <p:nvPr/>
            </p:nvSpPr>
            <p:spPr>
              <a:xfrm>
                <a:off x="4878360" y="35575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94172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01480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29120" y="38847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4421160" y="3786120"/>
              <a:ext cx="225360" cy="457200"/>
              <a:chOff x="4421160" y="3786120"/>
              <a:chExt cx="225360" cy="457200"/>
            </a:xfrm>
          </p:grpSpPr>
          <p:sp>
            <p:nvSpPr>
              <p:cNvPr id="804" name=""/>
              <p:cNvSpPr/>
              <p:nvPr/>
            </p:nvSpPr>
            <p:spPr>
              <a:xfrm>
                <a:off x="4421160" y="37861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48452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55760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471920" y="41133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8" name=""/>
          <p:cNvGrpSpPr/>
          <p:nvPr/>
        </p:nvGrpSpPr>
        <p:grpSpPr>
          <a:xfrm>
            <a:off x="6478560" y="2514600"/>
            <a:ext cx="1752480" cy="1295280"/>
            <a:chOff x="6478560" y="2514600"/>
            <a:chExt cx="1752480" cy="1295280"/>
          </a:xfrm>
        </p:grpSpPr>
        <p:sp>
          <p:nvSpPr>
            <p:cNvPr id="809" name=""/>
            <p:cNvSpPr/>
            <p:nvPr/>
          </p:nvSpPr>
          <p:spPr>
            <a:xfrm>
              <a:off x="6707160" y="33019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645240" y="27957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478560" y="25146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493040" y="288612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89680" y="29988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7013520" y="324288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7697880" y="2565360"/>
              <a:ext cx="225360" cy="457200"/>
              <a:chOff x="7697880" y="2565360"/>
              <a:chExt cx="225360" cy="457200"/>
            </a:xfrm>
          </p:grpSpPr>
          <p:sp>
            <p:nvSpPr>
              <p:cNvPr id="816" name=""/>
              <p:cNvSpPr/>
              <p:nvPr/>
            </p:nvSpPr>
            <p:spPr>
              <a:xfrm>
                <a:off x="7697880" y="25653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763040" y="27003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835760" y="27003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748640" y="28926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7240680" y="2793960"/>
              <a:ext cx="225360" cy="457200"/>
              <a:chOff x="7240680" y="2793960"/>
              <a:chExt cx="225360" cy="457200"/>
            </a:xfrm>
          </p:grpSpPr>
          <p:sp>
            <p:nvSpPr>
              <p:cNvPr id="821" name=""/>
              <p:cNvSpPr/>
              <p:nvPr/>
            </p:nvSpPr>
            <p:spPr>
              <a:xfrm>
                <a:off x="7240680" y="2793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305840" y="29289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378560" y="2928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291440" y="3121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4:   Skyne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82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7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Xtensible Markup Languag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ruktureeritud teksti esitamise formaa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standard ütleb, kuidas teksti struktuuri märgista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latavalt liht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ga levinud ja ei ilmuta kadumise märke: vastupid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ei o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da intelligentset või automaatse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evahen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u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83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üüprake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il on mingid andm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id on vaja faili kirja panna ja hiljem arvutiga töödelda ja teistele  edasi sa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info mingi õllesordi koht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83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1928880" y="2371680"/>
            <a:ext cx="4435560" cy="386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2711520" y="2905200"/>
            <a:ext cx="2308320" cy="660240"/>
            <a:chOff x="2711520" y="2905200"/>
            <a:chExt cx="2308320" cy="660240"/>
          </a:xfrm>
        </p:grpSpPr>
        <p:sp>
          <p:nvSpPr>
            <p:cNvPr id="843" name=""/>
            <p:cNvSpPr/>
            <p:nvPr/>
          </p:nvSpPr>
          <p:spPr>
            <a:xfrm>
              <a:off x="2711520" y="2905200"/>
              <a:ext cx="2308320" cy="660240"/>
            </a:xfrm>
            <a:prstGeom prst="roundRect">
              <a:avLst>
                <a:gd name="adj" fmla="val 23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34880" y="2905200"/>
              <a:ext cx="1299240" cy="398880"/>
            </a:xfrm>
            <a:prstGeom prst="roundRect">
              <a:avLst>
                <a:gd name="adj" fmla="val 23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t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2394720" y="4871880"/>
            <a:ext cx="3405960" cy="636840"/>
            <a:chOff x="2394720" y="4871880"/>
            <a:chExt cx="3405960" cy="636840"/>
          </a:xfrm>
        </p:grpSpPr>
        <p:sp>
          <p:nvSpPr>
            <p:cNvPr id="846" name=""/>
            <p:cNvSpPr/>
            <p:nvPr/>
          </p:nvSpPr>
          <p:spPr>
            <a:xfrm>
              <a:off x="2419200" y="4871880"/>
              <a:ext cx="3381480" cy="636840"/>
            </a:xfrm>
            <a:prstGeom prst="roundRect">
              <a:avLst>
                <a:gd name="adj" fmla="val 25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394720" y="4871880"/>
              <a:ext cx="2441520" cy="573840"/>
            </a:xfrm>
            <a:prstGeom prst="roundRect">
              <a:avLst>
                <a:gd name="adj" fmla="val 25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Järsumaitse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4966200" y="4213080"/>
            <a:ext cx="1309320" cy="586080"/>
            <a:chOff x="4966200" y="4213080"/>
            <a:chExt cx="1309320" cy="586080"/>
          </a:xfrm>
        </p:grpSpPr>
        <p:sp>
          <p:nvSpPr>
            <p:cNvPr id="849" name=""/>
            <p:cNvSpPr/>
            <p:nvPr/>
          </p:nvSpPr>
          <p:spPr>
            <a:xfrm>
              <a:off x="4970520" y="4213080"/>
              <a:ext cx="1305000" cy="58608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966200" y="4213080"/>
              <a:ext cx="126756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5.4 kraa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033880" y="3505320"/>
            <a:ext cx="1073160" cy="585720"/>
            <a:chOff x="5033880" y="3505320"/>
            <a:chExt cx="1073160" cy="585720"/>
          </a:xfrm>
        </p:grpSpPr>
        <p:sp>
          <p:nvSpPr>
            <p:cNvPr id="852" name=""/>
            <p:cNvSpPr/>
            <p:nvPr/>
          </p:nvSpPr>
          <p:spPr>
            <a:xfrm>
              <a:off x="5033880" y="3505320"/>
              <a:ext cx="1073160" cy="58572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033880" y="3505320"/>
              <a:ext cx="86220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221000" y="3835440"/>
            <a:ext cx="749520" cy="561960"/>
            <a:chOff x="4221000" y="3835440"/>
            <a:chExt cx="749520" cy="561960"/>
          </a:xfrm>
        </p:grpSpPr>
        <p:sp>
          <p:nvSpPr>
            <p:cNvPr id="855" name=""/>
            <p:cNvSpPr/>
            <p:nvPr/>
          </p:nvSpPr>
          <p:spPr>
            <a:xfrm>
              <a:off x="4227480" y="3835440"/>
              <a:ext cx="743040" cy="561960"/>
            </a:xfrm>
            <a:prstGeom prst="roundRect">
              <a:avLst>
                <a:gd name="adj" fmla="val 28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21000" y="3835440"/>
              <a:ext cx="697320" cy="32976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8.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2015280" y="3811680"/>
            <a:ext cx="1942200" cy="463320"/>
            <a:chOff x="2015280" y="3811680"/>
            <a:chExt cx="1942200" cy="463320"/>
          </a:xfrm>
        </p:grpSpPr>
        <p:sp>
          <p:nvSpPr>
            <p:cNvPr id="858" name=""/>
            <p:cNvSpPr/>
            <p:nvPr/>
          </p:nvSpPr>
          <p:spPr>
            <a:xfrm>
              <a:off x="2030400" y="3811680"/>
              <a:ext cx="1927080" cy="46332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015280" y="3811680"/>
              <a:ext cx="1761120" cy="3297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õllevabri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seda faili kirja pann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1: inimkeelse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ia tumeda tootja on Nuia õllevabrik. Porteri tüüpi õlu. Kangus 5.4 kraadi. Järsumaitseline. Hind 8.90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eks hea variant, aga arvutiga praktiliselt lootusetu töödel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2: CSV (comma separated values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Nuia tume”, “Nuia õllevabrik”, Porter, 8.90, 5.4, Järsumaitsel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s hea ja väga levinud varian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 ei saa öelda, mis tähestikus (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õ, ä jne kodeering)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ja on eraldi öelda, mida väljad tähendavad (selleks saab kasutada päiserida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probleem: järgmisel slaid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863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V ja muude tabelkujude põhiprobl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840960"/>
            <a:ext cx="7848720" cy="62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SV ja muud tabeliformaadid esitavad infot tabelin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ei sobi hästi, kui tabeli ruutudes peaks olema alamtabel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, ku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haksime sisestada aadressi: riik, linn/küla, tänav, maja/k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nna juures on hinnaühik (EEK, EUR, jn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QL andmebaasides kasutatakse siis abitabeleid ja neid siduvaid kunstlikke ID-numbreid, mis pole seotud algse data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868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1782720" y="1623960"/>
            <a:ext cx="5178600" cy="2125800"/>
          </a:xfrm>
          <a:prstGeom prst="roundRect">
            <a:avLst>
              <a:gd name="adj" fmla="val 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454120" y="1660680"/>
            <a:ext cx="1800" cy="20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7032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371840" y="1673280"/>
            <a:ext cx="180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51988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808280" y="2050920"/>
            <a:ext cx="511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820880" y="24908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832040" y="30290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viis eelmist infot kirja pa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72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-s “pakitakse” infoväljad kirjeldavate n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de vahe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Nuia õllevabrik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saab töödelda arvutiga nagu CSV-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inimesele kohmakas lugeda, kuid siiski üheselt arusaada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inus: tekst on pikem,  kui CSV puhul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st saab üle: kokkusurumine (zip, gz, jms pakkijad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88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a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88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111400" y="1855800"/>
            <a:ext cx="5178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8360" indent="-281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738360"/>
                <a:tab algn="l" pos="1652760"/>
                <a:tab algn="l" pos="2567160"/>
                <a:tab algn="l" pos="3481560"/>
                <a:tab algn="l" pos="4395960"/>
                <a:tab algn="l" pos="5310360"/>
                <a:tab algn="l" pos="6224760"/>
                <a:tab algn="l" pos="7139160"/>
                <a:tab algn="l" pos="8053560"/>
                <a:tab algn="l" pos="8967960"/>
                <a:tab algn="l" pos="9882360"/>
                <a:tab algn="l" pos="107967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ootja&gt;Nuia õllevabrik&lt;/tootja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2685960" y="2266920"/>
            <a:ext cx="1800" cy="16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089800" y="4041720"/>
            <a:ext cx="1005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u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594400" y="4114800"/>
            <a:ext cx="9334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õpu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6094440" y="2290680"/>
            <a:ext cx="1440" cy="16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4275000" y="2281320"/>
            <a:ext cx="1800" cy="16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999600" y="4091040"/>
            <a:ext cx="547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693800" y="4948200"/>
            <a:ext cx="5886360" cy="341280"/>
          </a:xfrm>
          <a:custGeom>
            <a:avLst/>
            <a:gdLst/>
            <a:ahLst/>
            <a:rect l="l" t="t" r="r" b="b"/>
            <a:pathLst>
              <a:path w="16353" h="950">
                <a:moveTo>
                  <a:pt x="16352" y="0"/>
                </a:moveTo>
                <a:cubicBezTo>
                  <a:pt x="16352" y="237"/>
                  <a:pt x="15671" y="474"/>
                  <a:pt x="14990" y="474"/>
                </a:cubicBezTo>
                <a:lnTo>
                  <a:pt x="9539" y="474"/>
                </a:lnTo>
                <a:cubicBezTo>
                  <a:pt x="8858" y="474"/>
                  <a:pt x="8176" y="711"/>
                  <a:pt x="8176" y="949"/>
                </a:cubicBezTo>
                <a:cubicBezTo>
                  <a:pt x="8176" y="711"/>
                  <a:pt x="7495" y="474"/>
                  <a:pt x="6814" y="474"/>
                </a:cubicBezTo>
                <a:lnTo>
                  <a:pt x="1363" y="474"/>
                </a:lnTo>
                <a:cubicBezTo>
                  <a:pt x="682" y="474"/>
                  <a:pt x="0" y="237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53320" y="5483160"/>
            <a:ext cx="9471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st lugeda lisaks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ndardid, töögrupid, põhjalik info: W3C  (www.w3c.org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eõppe-kursused: w3schools (www.w3schools.com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evaated: wikipedia (www.wikipedia.org/Wiki/Html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9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gide põhieel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did võivad sisaldada teisi element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õllevabrik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üla&gt;Nuia&lt;/kül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änav&gt;Tallinna mnt&lt;/tänav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ja&gt;2&lt;/ma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90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 ja X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pannakse “tag”-ide vahele: infol on sildi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:  “tag”-del visuaalne semantik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b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pak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b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i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kaldkirja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i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:   “tag”-del semantika puudub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autor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autor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minuaadress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v 9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minuaadress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0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4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:  väga raske, pea võimatu on teha programmi, mis loeks teisest serverist HTML-lehekülg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teeme võrgulehekülgi XML-is, nii et programm teises arvutis suudaks neid luged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1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1905120" y="3962520"/>
            <a:ext cx="457200" cy="533160"/>
            <a:chOff x="1905120" y="3962520"/>
            <a:chExt cx="457200" cy="533160"/>
          </a:xfrm>
        </p:grpSpPr>
        <p:sp>
          <p:nvSpPr>
            <p:cNvPr id="913" name=""/>
            <p:cNvSpPr/>
            <p:nvPr/>
          </p:nvSpPr>
          <p:spPr>
            <a:xfrm>
              <a:off x="1905120" y="3962520"/>
              <a:ext cx="457200" cy="5331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35080" y="41194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82680" y="41194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08080" y="4344840"/>
              <a:ext cx="252360" cy="511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6477120" y="28954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3"/>
          <a:stretch/>
        </p:blipFill>
        <p:spPr>
          <a:xfrm>
            <a:off x="6400800" y="46483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6048360" y="5638680"/>
            <a:ext cx="155448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asteen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811320" y="4648320"/>
            <a:ext cx="174492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vamis-tee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514600" y="4114800"/>
            <a:ext cx="1752480" cy="1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4952880" y="3273480"/>
            <a:ext cx="1447920" cy="768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105520" y="4191120"/>
            <a:ext cx="11430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983120" y="30290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638680" y="4114800"/>
            <a:ext cx="9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971800" y="36576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tseduraalne vs deklaratiiv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98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tseduraalne info esitu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on programmi sisse kodeeritud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klaratiivne info esitu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on eraldi reeglitena (failis), mida  reegleid kasutav algoritm rakendab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3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s puudub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910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programm peab teise programmi antud XML-ist SISULISELT aru saam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llepartiide otsimise serv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A annab infot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Hulgimüüja b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&lt;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           &lt;mark&gt;Guinness&lt;/mark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                      &lt;hind&gt;100&lt;/hind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&lt;/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C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3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rineva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26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me teadma, 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            =        ÕL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ORTER   on ka    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lootust teha “ette valmis” kõiki keel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olemas alamkeeled (üldine toodete keel, õllede keel Eestis, Tshehhis, Hiinas, õllede keel Tartu Õllevabrikus ja Sakus, ...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i on vaja omavahel tõlki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lkimiseks on vaja reegleid ja elementaarset arusaa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4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-4370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ama probleem XML andmebaasis ÜHES MASINA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QL keeles on meil tabel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  Nim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D      Ame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------------------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-------------------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   Jaan Tam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        Degustaat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   Ants Rau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        Laome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   Jaan Tam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        Müügime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         Juhataj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egl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888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8880" indent="-30168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 esimeses tabelis ei tohi kordu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8880" indent="-30168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D teises tabelis peab olema esimeses tabel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ja: nimede seosed, reeglid struktuuril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4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bleem on laial skaalal ük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5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andmebaas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mitu masina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terve interne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5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 flipH="1">
            <a:off x="5867280" y="3103560"/>
            <a:ext cx="9208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3179520" y="3114720"/>
            <a:ext cx="920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emantic web: projek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3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esmärk: pakkuda XML-põhiseid keeli ja luua standardeid, mille abil kirjeldada asju (internetis) ja (XML) keeltevahelisi seoseid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ovitav tulemus: saab teha tarkvara, mille abil XML-datat saab ühest programmist teise saata, nii et info kaduma ei läh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majoones vaja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bjektide kirjeldamis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istete omavaheliste seoste ja reeglit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jekti juht:   Tim Berners-Lee (http, www ja esimese brauseri autor, w3c juht)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5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hili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evalt all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estuste ke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keel (Owl ja tema alamhulgad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jade kirjelduskeel (RDF ja RDFS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mede unikaliseerimine (XML namespaces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ntaks (XML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nsport (http, https, SOAP, tcp/ip ...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6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1143000" y="1752480"/>
            <a:ext cx="5943600" cy="3657600"/>
          </a:xfrm>
          <a:prstGeom prst="roundRect">
            <a:avLst>
              <a:gd name="adj" fmla="val 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html-faili tõmmat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me lihtsat java-koodi näide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ad brauserid ja brauseritaolised rakendus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ynx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g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ur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0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de unikaliseerimine: XML namespac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668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agi ette saab kirjutada, mis keeles ta on     &lt;keel:tag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te nimedeks kasutatakse URI-sid (URL-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 xmlns:rdf="http://www.w3.org/1999/02/22-rdf-syntax-ns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dc="http://purl.org/dc/elements/1.1/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ex="http://www.example.org/terms/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http://www.example.org/index.html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creation-date&gt;August 16, 1999&lt;/ex:creation-dat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language&gt;English&lt;/ex:languag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c:creator rdf:resource="http://www.example.org/staffid/85740"/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6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jade kirjeldamine: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kirjeldused on kolmikud:   [omadus,  ressurss,  objekt]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dina:   omadus(ressurss, objekt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need kolm võivad olla URI-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7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90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creation-dat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ose value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August 16, 1999</a:t>
            </a:r>
            <a:br>
              <a:rPr sz="2000"/>
            </a:b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languag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ose value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English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cre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ndicated by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   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staffid/8574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7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1" name="" descr=""/>
          <p:cNvPicPr/>
          <p:nvPr/>
        </p:nvPicPr>
        <p:blipFill>
          <a:blip r:embed="rId1"/>
          <a:stretch/>
        </p:blipFill>
        <p:spPr>
          <a:xfrm>
            <a:off x="0" y="3995640"/>
            <a:ext cx="9144000" cy="244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916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 xmlns:rdf="http://www.w3.org/1999/02/22-rdf-syntax-ns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dc="http://purl.org/dc/elements/1.1/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ex="http://www.example.org/terms/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http://www.example.org/index.html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creation-date&gt;August 16, 1999&lt;/ex:creation-dat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language&gt;English&lt;/ex:languag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c:creator rdf:resource="http://www.example.org/staffid/85740"/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8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: sügavam pu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3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9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2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ntoloogi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3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ontoloogiad: “maailma mudelid” ehk mõistete hierarh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rin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emonad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gred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lsner      Porter     Bock        Hops   Malts  .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 valdkondades on oma ontoloog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lmselt ei õnnestu panna kõiki programme kasutama samu “standardontoloogiaid”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9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 flipH="1">
            <a:off x="2664000" y="1905120"/>
            <a:ext cx="6919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1672920" y="3276720"/>
            <a:ext cx="5396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514600" y="3352680"/>
            <a:ext cx="144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71800" y="320040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809880" y="1905120"/>
            <a:ext cx="23623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4797360" y="3352680"/>
            <a:ext cx="38736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410080" y="3352680"/>
            <a:ext cx="2286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985680" y="2476440"/>
            <a:ext cx="6051600" cy="2303640"/>
          </a:xfrm>
          <a:custGeom>
            <a:avLst/>
            <a:gdLst/>
            <a:ahLst/>
            <a:rect l="l" t="t" r="r" b="b"/>
            <a:pathLst>
              <a:path w="16812" h="6399">
                <a:moveTo>
                  <a:pt x="12052" y="321"/>
                </a:moveTo>
                <a:cubicBezTo>
                  <a:pt x="11135" y="39"/>
                  <a:pt x="10403" y="48"/>
                  <a:pt x="9406" y="0"/>
                </a:cubicBezTo>
                <a:cubicBezTo>
                  <a:pt x="8017" y="22"/>
                  <a:pt x="6672" y="57"/>
                  <a:pt x="5292" y="180"/>
                </a:cubicBezTo>
                <a:cubicBezTo>
                  <a:pt x="4820" y="313"/>
                  <a:pt x="4348" y="343"/>
                  <a:pt x="3863" y="392"/>
                </a:cubicBezTo>
                <a:cubicBezTo>
                  <a:pt x="3329" y="551"/>
                  <a:pt x="2769" y="643"/>
                  <a:pt x="2218" y="714"/>
                </a:cubicBezTo>
                <a:cubicBezTo>
                  <a:pt x="2068" y="815"/>
                  <a:pt x="1931" y="859"/>
                  <a:pt x="1750" y="895"/>
                </a:cubicBezTo>
                <a:cubicBezTo>
                  <a:pt x="1671" y="948"/>
                  <a:pt x="1574" y="979"/>
                  <a:pt x="1499" y="1036"/>
                </a:cubicBezTo>
                <a:cubicBezTo>
                  <a:pt x="996" y="1415"/>
                  <a:pt x="1737" y="956"/>
                  <a:pt x="1177" y="1287"/>
                </a:cubicBezTo>
                <a:cubicBezTo>
                  <a:pt x="1009" y="1490"/>
                  <a:pt x="815" y="1706"/>
                  <a:pt x="604" y="1861"/>
                </a:cubicBezTo>
                <a:cubicBezTo>
                  <a:pt x="502" y="2108"/>
                  <a:pt x="366" y="2310"/>
                  <a:pt x="246" y="2540"/>
                </a:cubicBezTo>
                <a:cubicBezTo>
                  <a:pt x="119" y="2795"/>
                  <a:pt x="88" y="3095"/>
                  <a:pt x="0" y="3364"/>
                </a:cubicBezTo>
                <a:cubicBezTo>
                  <a:pt x="13" y="3655"/>
                  <a:pt x="13" y="4158"/>
                  <a:pt x="141" y="4471"/>
                </a:cubicBezTo>
                <a:cubicBezTo>
                  <a:pt x="176" y="4560"/>
                  <a:pt x="273" y="4608"/>
                  <a:pt x="321" y="4687"/>
                </a:cubicBezTo>
                <a:cubicBezTo>
                  <a:pt x="524" y="5040"/>
                  <a:pt x="855" y="5203"/>
                  <a:pt x="1248" y="5261"/>
                </a:cubicBezTo>
                <a:cubicBezTo>
                  <a:pt x="1583" y="5393"/>
                  <a:pt x="1918" y="5521"/>
                  <a:pt x="2253" y="5653"/>
                </a:cubicBezTo>
                <a:cubicBezTo>
                  <a:pt x="2548" y="5772"/>
                  <a:pt x="3611" y="5816"/>
                  <a:pt x="4004" y="5830"/>
                </a:cubicBezTo>
                <a:cubicBezTo>
                  <a:pt x="5053" y="5869"/>
                  <a:pt x="6103" y="5905"/>
                  <a:pt x="7153" y="5940"/>
                </a:cubicBezTo>
                <a:cubicBezTo>
                  <a:pt x="8903" y="6156"/>
                  <a:pt x="10650" y="6222"/>
                  <a:pt x="12414" y="6297"/>
                </a:cubicBezTo>
                <a:cubicBezTo>
                  <a:pt x="12956" y="6363"/>
                  <a:pt x="13481" y="6398"/>
                  <a:pt x="14023" y="6297"/>
                </a:cubicBezTo>
                <a:cubicBezTo>
                  <a:pt x="14253" y="6253"/>
                  <a:pt x="14703" y="6152"/>
                  <a:pt x="14703" y="6152"/>
                </a:cubicBezTo>
                <a:cubicBezTo>
                  <a:pt x="14963" y="5944"/>
                  <a:pt x="15196" y="5949"/>
                  <a:pt x="15487" y="5724"/>
                </a:cubicBezTo>
                <a:cubicBezTo>
                  <a:pt x="15730" y="5534"/>
                  <a:pt x="15920" y="5362"/>
                  <a:pt x="16131" y="5150"/>
                </a:cubicBezTo>
                <a:cubicBezTo>
                  <a:pt x="16290" y="4992"/>
                  <a:pt x="16383" y="4855"/>
                  <a:pt x="16564" y="4723"/>
                </a:cubicBezTo>
                <a:cubicBezTo>
                  <a:pt x="16678" y="4489"/>
                  <a:pt x="16749" y="4299"/>
                  <a:pt x="16811" y="4044"/>
                </a:cubicBezTo>
                <a:cubicBezTo>
                  <a:pt x="16775" y="3532"/>
                  <a:pt x="16802" y="3497"/>
                  <a:pt x="16528" y="3148"/>
                </a:cubicBezTo>
                <a:cubicBezTo>
                  <a:pt x="16449" y="2937"/>
                  <a:pt x="16255" y="2804"/>
                  <a:pt x="16096" y="2646"/>
                </a:cubicBezTo>
                <a:cubicBezTo>
                  <a:pt x="15664" y="2213"/>
                  <a:pt x="15152" y="1790"/>
                  <a:pt x="14632" y="1468"/>
                </a:cubicBezTo>
                <a:cubicBezTo>
                  <a:pt x="14464" y="1248"/>
                  <a:pt x="14438" y="1336"/>
                  <a:pt x="14200" y="1217"/>
                </a:cubicBezTo>
                <a:cubicBezTo>
                  <a:pt x="13719" y="979"/>
                  <a:pt x="13216" y="776"/>
                  <a:pt x="12736" y="538"/>
                </a:cubicBezTo>
                <a:cubicBezTo>
                  <a:pt x="12639" y="489"/>
                  <a:pt x="12392" y="410"/>
                  <a:pt x="12303" y="392"/>
                </a:cubicBezTo>
                <a:cubicBezTo>
                  <a:pt x="12039" y="335"/>
                  <a:pt x="12052" y="445"/>
                  <a:pt x="12052" y="321"/>
                </a:cubicBezTo>
                <a:lnTo>
                  <a:pt x="12052" y="321"/>
                </a:ln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ntoloogiakeeled (Owl, olid DAML ja OI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75960" y="762120"/>
            <a:ext cx="8915400" cy="64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rdf:RDF xmlns:rdf = "http://www.w3.org/1999/02/22-rdf-syntax-ns#"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mlns = "http://www.daml.org/2001/03/daml+oil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mlns:daml = "http://www.daml.org/2001/03/daml+oil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mlns:gen = "http://www.cs.umd.edu/projects/plus/DAML/onts/general1.0.daml#" 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Ontology about="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versionInfo&gt;beer-ont, v.1.0&lt;/versionInfo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omment&gt;An ontology that models brewers and types of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eer.&lt;/comment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imports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source=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"http://www.cs.umd.edu/projects/plus/DAML/onts/general1.0.daml" /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Ontology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0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ntoloogiakeeled DAML ja OI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75960" y="761760"/>
            <a:ext cx="8915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lass ID="ScotchAle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subClassOf resource="#Ale" /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lass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lass ID="Brewery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subClassOf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source="http://www.cs.umd.edu/projects/plus/DAML/onts/general1.0.daml#Organization" /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lass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lass ID="Perle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subClassOf resource="#Hops" /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lass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lass ID="Chinook"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subClassOf resource="#Hops" /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lass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1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ntoloogiakeeled DAML ja OI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596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lass ID="Porter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subClassOf resource="#Beer" /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lass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lass ID="Caramel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subClassOf resource="#Malt" /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lass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1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: http://www.w3schools.com/html/default.as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ndard: http://www.w3.org/TR/html401/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XHTML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liselt seesama, mis HTML (samad tagid jn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id peavad olema väikeste tähtedeg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b olema korrektses XML süntaksis (tagi suletud jn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ar XML-i lisaknihvi ka (namespaced jn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0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1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1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, CSS, asynchronous queri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HTML tähistas: HTML+CSS+Javascrip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JAX tähistab: HTML+CSS+Javascript+async. queri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2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ja XSLT brauser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me XML-i ja XSLT-t edasis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36640" y="377640"/>
            <a:ext cx="7769160" cy="306360"/>
            <a:chOff x="836640" y="377640"/>
            <a:chExt cx="7769160" cy="306360"/>
          </a:xfrm>
        </p:grpSpPr>
        <p:sp>
          <p:nvSpPr>
            <p:cNvPr id="129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 </dc:title>
</cp:coreProperties>
</file>